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77D-1390-4D32-8CF3-8AD785AF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405-3638-418A-A925-92E4F689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C62-7D5E-47CE-91CD-F7C3F3F7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A0A-9C0B-4B55-946C-42E98B90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FE7-EAD1-4DD5-B765-C9FE794E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B57-7989-4F82-8F47-0EA781E5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E6E-6CF6-497F-B1AA-463F5681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4EF-E89C-415D-B9E9-DB6AFFC9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483-C1D0-4237-B394-ECB2DD92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7F4-8D69-4758-BA86-D78AA53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5B5-740A-4914-91A9-19F585A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A2D-F4BA-4A6D-8D48-5303829E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57DC-E656-473A-A61F-D8C886BFB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sants During The Middle Ag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that work the lands for protection are called Serf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asants are free but most peasants are Ser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allowed to keep very little of what they produce they give most of what they produce to their l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fs had a simple but uncomfortable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rfs went to their lord in exchange for prot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 didn’t have money or much of any 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were at the bottom of the triangle that divides people in the middle ages according to how much power they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a Serfs household ate and slept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households are made of c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te in the main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Were har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d to work all their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a Peasant or a Serf is a hard life but they get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6:41:21Z</dcterms:created>
  <dc:creator>Student</dc:creator>
  <dc:description/>
  <dc:language>en-US</dc:language>
  <cp:lastModifiedBy>Student</cp:lastModifiedBy>
  <dcterms:modified xsi:type="dcterms:W3CDTF">2011-03-25T17:26:05Z</dcterms:modified>
  <cp:revision>5</cp:revision>
  <dc:subject/>
  <dc:title>Peasants During The Middle Ages</dc:title>
</cp:coreProperties>
</file>